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086-5CAC-4F53-987E-2576EC30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288-1EDA-4AA1-8DA8-B18600E0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FD1-2039-4532-AFB7-7D00997F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348-D09E-4257-A9F9-F8EEE6C6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A736-D097-466D-B66C-866CA046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8C18-77B7-4D06-BD78-3451574A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B8F5-9096-4E72-95F9-84C7981B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E0CF-CD6B-4557-ADC7-BFD29076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A6F1-9629-46C1-AB9D-E0A39D8C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52C8-2DC7-43E0-9EBE-DDB42671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1E1D-E371-468C-87A8-F5A1461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030-40E3-413A-855D-FB3D50B4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6EF0-AA9A-407D-B1DF-A8D286F3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3B8B-FE24-4C6B-B5CD-C2B2BEB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4407-AC58-4A80-A660-F4669A6B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D958-C2CA-4AC5-89B1-62B3AABE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CB2A-C287-47B4-9B48-3C9D9936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667-E0F1-473D-AF81-11AE160F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DFF-C262-433A-84AA-96A7AF85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9BB-A510-457A-9FCD-22776F79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A7F-DD23-449A-8D2F-C1A35C60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6E5-DA39-4706-BB2A-BF3DF28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A55-D56D-4D9D-B6D6-F2EE1207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1A5-31A9-4F55-8B0B-BB027E34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CCF9-0C8D-469B-97EF-D6D063B710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FBC7-E205-4637-8B8B-06856A6CF1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31280" y="1447920"/>
            <a:ext cx="9957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hy did Revolutions take place in 1848 on the contin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Unresolved Political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Agricultural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Industr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Na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Role of the Domino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hy Revolution doesn’t take place in Bri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Workers’ Chartism of the 1830s and 184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Arial"/>
              </a:rPr>
              <a:t>Failure of Workers’ Charter vs. victory of middle classes by 18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Goals of the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hy did revolutions fa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1040" y="152280"/>
            <a:ext cx="51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eorgia"/>
              </a:rPr>
              <a:t>Revolutions of 184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Reign of Louis-Philippe (1830-1848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Industrialization took off during the reign of Louis-Philip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ouis-Philippe did little to help the plight of work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yon Uprisings (1831 &amp; 183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ouis-Philippe became increasingly reluctant to grant democratic refor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Frustration finally erupted in February 1848 when a cross-class alliance overthrew Louis-Philip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February Revolution in Franc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On 22 February, a grand political banquet was planned in Par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-Philippe banned this banqu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Barricades went u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-Philippe called out the National Guar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Without the support of the National Guard, Louis-Philippe was backed into a corner and began to make concess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Provisional Government establish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ed by a group of moderate &amp; radical republic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Immediate Goal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Elections for a Constituent Assembly by universal manhood suffra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New constitution  (Republi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Abolished slave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Abolished the death penal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Established the 10-hour workd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5791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84582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eorgia"/>
              </a:rPr>
              <a:t>The Course of the 1848 Rev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January:  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Palerm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(Ita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February:  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P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arch: 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Berli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unich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Vienn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Veni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ila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rac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In Austr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Kaiser Franz Jose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849: Revolt in Hungar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suppressed with Russian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hel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808200"/>
            <a:ext cx="60958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57640" y="0"/>
            <a:ext cx="5886360" cy="7086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3049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Metternich forced to flee in March 18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Revolutions in Europ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ustr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eternich flees the revolu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Ferdinand deposed, choice of his nephew Franz Joseph II (1848-191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Hungarian revolt suppressed with Russian hel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icholas I, “the policeman of Europe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German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Unification of German St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Large Germany (Grossdeutsch), or Little Germany (Kleindeutsc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Frankfort Parliament offers imperial crown to Prussian 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Italy: Revolts in Naples, Papal States, Tuscany, Ven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Goal: Unification under the House of Savo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ustrians reassert control in Tuscany &amp; Vene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8610480" cy="647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19320" y="64008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Revolutionaries in city of Wartburg 18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eorgia"/>
              </a:rPr>
              <a:t>Split among Revolution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Spring 1848 -- a split developed between Moderate Republicans &amp; radical groups (Left Republicans &amp; Socialist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23 April 1848 – Elections to the National Assembly.  Moderate Republicans were victorio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5 May 1848 – People of Paris stormed the National Assemb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y 1848 – Marked the end of the truly revolutionary period of the Revolu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The new revolutionary government tried to alleviate unemployment through a government-sponsored works program (National Workshop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Issue of the Workshops was the lightening rod that divided the revolution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June Days  (23-26 June 184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To many Europeans, June Days marked an important departure in revolutionary politics.  Now the new struggle:  bourgeoisie vs. the working clas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Karl Marx: “Only after baptism in the blood of the June insurgents did the tricolor become the flag of the European revolution—the red flag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066680"/>
            <a:ext cx="8534520" cy="73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The Squeeze:  Economic recession and social wel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45 percent tax, national workshops, educational </a:t>
            </a: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Elections, April 1848:  Conservatives in the maj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Worker clubs of the Spring 18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Counter-Revolution, June 18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Conservatives:  Legitimists, Orleanists, Bonapar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ouis Napoleon’s election, December 18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Social Democrats and the Mountains, 1849-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Louis Napoleon’s coup, December 18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The Second French Republic 1848-1851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14300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ember 1848 Elections i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napart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,5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republica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,5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ical republica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371,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ciali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36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After the June Days in Franc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June Days marked a victory for the Moderate Republi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ach month grew more conserv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4 Nov. 1848 – Second French Republic proclaim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10 December 1848 – Presidential Elections held. Nephew of Napoléon Bonaparte, Louis-Napoléon, w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His greatest support came from the peasan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arch 1850 – Falloux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2 December 1851 – Louis-Napoléon’s coup d’é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2 December 1852 – Louis-Napoléon assumed the title of Emperor Napoléon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Conservative order had been re-establ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5486400" cy="531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219320"/>
            <a:ext cx="335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y Revolutions in 184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y did this not happen in Bri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at were the goa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y did the majority of revolutions fa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  <a:ea typeface="Times New Roman"/>
              </a:rPr>
              <a:t>What lasting impact did revolutions have on Euro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0360" y="0"/>
            <a:ext cx="491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eorgia"/>
              </a:rPr>
              <a:t>Revolutions of 184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eorgia"/>
              </a:rPr>
              <a:t>Revolution in Berlin (Prussia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3 March 1848 – Revolution broke out in the Rhine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5 March 1848 -- Revolutionaries revolted in Berlin, demanding liberal democratic refor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King of Prussia (Frederick William IV) made concessions to the revolution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Soon afterwards, the other leaders of German states also gave their support for liberal democratic &amp; nationalist refor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Believing that the kings &amp; princes were committed to a united Germany, bourgeois liberal leaders began to meet in Frankfurt to write a new constitution for a united Germany. (Frankfurt Parli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Supported liberal democ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ittle Germany or Large German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Supported a constitutional monarchy (under the leadership of the King of Prussia) &amp; a united Germany without Austr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5133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95160" y="6172200"/>
            <a:ext cx="6368040" cy="45972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ice Breaking Up a Demonstration, Berlin, 18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Revolution in the Austrian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(Hapbsurg) Empi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While many revolutionaries advocated liberalism, most were nationalis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alls for liberal democracy centered in Vien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2 March 1848, Revolution broke out in Vien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Nationalist Revol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zechs, Hungarians, &amp; Italians, in particular, rejected the dominance of a foreign, German-speaking, rule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32280" y="1600200"/>
            <a:ext cx="3668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Hungarian (Magyar) &amp; Czech Revolutio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ost powerful of the minorities &amp; the most successful of the revolution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 (Lajos) Kossuth (1802-189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3 March 1848 – Revolution broke out in Budap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Frightened Metternich, who quickly agreed to allow the Hungarians to establish a liberal democratic parliamen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rch Laws:  Representation, freedom of the press, religious freedom, equal justice before the law, taxation of the nobi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y 1848 – Czechs revolted, demanding political autonomy similar to what the Hungarians had receiv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9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Retreat of the Hapsburg Empir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Seeing what was happening throughout Europe, the Austrian Emperor (Ferdinand I) began to grant liberal concess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March 1848 – King dismissed Metterni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25 April 1848 – King agreed to a constitutional monarc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Granted Universal manhood suffrag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Emancipated the serf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15 May 1848 – Another wave of demonstrations broke out in Vien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May 17 1848 – Emperor fled to Innsbruck (Austri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Beginning in the summer of 1848, Austria reasserted her dominance over the revolutionar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June 1848 – Emperor’s army crushed the Czech revo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October 1848 – Emperor crushed the revolt in Vien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September 1848 1848 – Emperor sent troops into Hungary to suppress the revolu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December 1948 – Emperor abdicated in favor of his nephew (Francis Joseph I) who was determined to suppress these revolution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March 1849 – Austrian forces conquered Hungary &amp; imposed military ru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June 1849 – Austrian joins with Prussia to crush revolutions in the Rhineland, Saxony, &amp; Bava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6760" cy="5856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0480" y="61358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ilan, 18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38800" y="5942160"/>
            <a:ext cx="52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Fighting at the Tosa Gate,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Note green, white and red 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Flag of Cisalpine republic of Napoleonic Peri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Revolution in Ital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January &amp; February 1848 – Revolts erupted in Naples &amp; Tur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rch 1848 –  </a:t>
            </a:r>
            <a:r>
              <a:rPr b="0" i="1" lang="en-US" sz="2000" spc="-1" strike="noStrike">
                <a:solidFill>
                  <a:srgbClr val="ffffcc"/>
                </a:solidFill>
                <a:latin typeface="Georgia"/>
              </a:rPr>
              <a:t>Guerra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Georgia"/>
              </a:rPr>
              <a:t>Santa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 (Holy Wa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22 March 1848 – Revolution broke out &amp; Venetian Republic was establish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ame under the leadership of Garibald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March 1848 – Papal States were given a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February 1849 – Roman Republic proclaimed under the leadership of Mazzin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Goals:  Liberalism &amp; National Unif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ed by Charles Albert (King of Piedmont-Sardin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23 March 1848 – Piedmont-Sardina declared war on Aust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New Republics:  Venice, Tuscany, &amp; 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June 1848 – Austrians defeated Piedmont-Sardinia. Austrians re-established control over Lombardy &amp; Venetia, destroying the republ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38280" y="1171440"/>
            <a:ext cx="6705720" cy="5159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66880" y="63388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The Suppression of the 1848 Rev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Why do the Revolutions Fail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-220680" y="760320"/>
            <a:ext cx="66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Problem of Idealism among Revolution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ilitary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eak All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eorgia"/>
              </a:rPr>
              <a:t>Lasting Significance of 184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hile there was a lasting challenge of liberal and radical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Persistence of old reg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Democracy” and 2nd Republic in France under Louis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apoleon, president (1848-1852) then Emperor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apoleon III (1852-187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Representative” government (</a:t>
            </a:r>
            <a:r>
              <a:rPr b="0" i="1" lang="en-US" sz="2400" spc="-1" strike="noStrike">
                <a:solidFill>
                  <a:srgbClr val="ffffcc"/>
                </a:solidFill>
                <a:latin typeface="Georgia"/>
              </a:rPr>
              <a:t>Landtag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) in Prus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migration of 1848’ers to 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ventual conservative cooption of liberal and radical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48006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46320" y="624852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Illustrated London News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(20 Feb 184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4784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1280" y="152280"/>
            <a:ext cx="897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eorgia"/>
              </a:rPr>
              <a:t>Why did Revolutions take place in 1848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23880"/>
            <a:ext cx="510516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Unresolved politica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Agricultur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Indust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  <a:ea typeface="Arial"/>
              </a:rPr>
              <a:t>Role of the domino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Why violent revolution doesn’t take place in Britai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72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hartism  (1830s &amp; 1840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Working-class radic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hange from within the political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Six points of the Char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Universal manhood suff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Equal electoral distric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No property qualification for M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Payment for M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Annual parlia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Secret ball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Presentation of Charter three times (1839, 1842, 184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Ultimate failure of the Char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Internal Divi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-696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Role of Government to stamp out Chartist Factions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72600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9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6207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6324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Last Great Chartist Demonstration, Kennington Common, London (184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Goals of the Revolution in France, 184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Goals of the revolution differed depending on your clas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Bourgeois liberal goal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Constitutional representative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Limited democ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Limited state interfer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ation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orking-class radical republican goals: 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Constitutional representative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Universal male suff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ctivist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Nation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1560" cy="4191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8120" y="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From Restoration to Revolu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10080" y="395460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6680" y="4876920"/>
            <a:ext cx="4130640" cy="1313640"/>
          </a:xfrm>
          <a:prstGeom prst="rect">
            <a:avLst/>
          </a:prstGeom>
          <a:noFill/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Temporary alliances between middle and laboring classes fade with victory of Louis Philip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2720" y="698400"/>
            <a:ext cx="620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 XVIII (1815-1824) the Constitutional Ch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Charles X (1824-1830) attempts at Grand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  <a:ea typeface="Arial"/>
              </a:rPr>
              <a:t>July 1830: July Ordin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1830 Revolution and the July Monarch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ouis Philippe: the  “Bourgeois King” (1830-18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160" y="422928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Louis XVIII (1814-182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210360"/>
            <a:ext cx="518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Georgia"/>
              </a:rPr>
              <a:t>Eugene Delacroix, “Liberty Leading the People” (183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Reign of Louis-Philippe (1830-184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July Monarc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Bourgeois” 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Reform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dopted the Tricolor flag of the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Abolished censor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Worked with the parlia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lectoral Re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Louis-Philippe’s reforms helped mainly the upper middle classes (wealthy industrialists &amp; financier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3524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21:07:34Z</dcterms:created>
  <dc:creator>drs121f</dc:creator>
  <dc:description/>
  <dc:language>en-US</dc:language>
  <cp:lastModifiedBy>CHPA </cp:lastModifiedBy>
  <dcterms:modified xsi:type="dcterms:W3CDTF">2004-10-20T22:34:50Z</dcterms:modified>
  <cp:revision>9</cp:revision>
  <dc:subject/>
  <dc:title>Slide 1</dc:title>
</cp:coreProperties>
</file>